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pplause.wav" ContentType="audio/x-wav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336-669E-4055-81F0-BBA239DC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1ED-B33F-4B35-BABA-980610CB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1BF-DC9A-4135-9C19-8E755A11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0E6-F0BA-4029-9626-6DF71C0D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0D28-4A76-4C08-8CA7-DE956453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B28-B609-418D-B4D9-F34F577D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BE6-93D5-40C9-95C3-2E1C6D32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F96-3008-4FDB-A84A-7CDCBD27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503-70AD-43AC-9BBD-791DDD2C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8C0-A6F5-42B4-B23F-7C6DA5AA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620-D4FE-4991-8A5D-AFD918B9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896-1522-4FC3-B5F2-25C2329D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9F2C-14D9-4FC6-BAB7-94F74C7DC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2286000"/>
            <a:ext cx="586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3816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Tribecca Travis</a:t>
            </a:r>
            <a:endParaRPr b="1" i="1" lang="en-US" sz="5400" spc="1" strike="noStrike">
              <a:ln w="38160">
                <a:solidFill>
                  <a:srgbClr val="00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1262400">
            <a:off x="6857640" y="380880"/>
            <a:ext cx="1744560" cy="2210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70160" y="3084480"/>
            <a:ext cx="466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981080"/>
            <a:ext cx="7315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ff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ff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ff"/>
                </a:solidFill>
                <a:latin typeface="Monotype Corsiva"/>
              </a:rPr>
              <a:t>Dra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ff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ff"/>
                </a:solidFill>
                <a:latin typeface="Monotype Corsiva"/>
              </a:rPr>
              <a:t>Writing Poems and Spe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ff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ff"/>
                </a:solidFill>
                <a:latin typeface="Monotype Corsiva"/>
              </a:rPr>
              <a:t>Debating for what I feel is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95280" y="533520"/>
            <a:ext cx="62485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9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latin typeface="Monotype Corsiva"/>
              </a:rPr>
              <a:t>I Am Good At.....</a:t>
            </a:r>
            <a:endParaRPr b="1" lang="en-US" sz="40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ff"/>
              </a:solidFill>
              <a:latin typeface="Monotype Corsiva"/>
              <a:ea typeface="Monotype Corsiva"/>
            </a:endParaRPr>
          </a:p>
        </p:txBody>
      </p:sp>
    </p:spTree>
  </p:cSld>
  <p:transition spd="slow" advTm="4000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600200" y="685800"/>
            <a:ext cx="6058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316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My Favorite Websites Are....</a:t>
            </a:r>
            <a:endParaRPr b="1" lang="en-US" sz="4400" spc="1" strike="noStrike">
              <a:ln w="3168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819520"/>
            <a:ext cx="8839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Monotype Corsiva"/>
              </a:rPr>
              <a:t>MyLifetime.com (For The Gam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Monotype Corsiva"/>
              </a:rPr>
              <a:t>Urbanchat.com( When I’m Really Bor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Monotype Corsiva"/>
              </a:rPr>
              <a:t>Slack_Time.com( Because I Love Musi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14400" y="533520"/>
            <a:ext cx="710424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Script MT Bold"/>
              </a:rPr>
              <a:t>My Favorite Foods Are....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Script MT Bold"/>
              <a:ea typeface="Script MT Bold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308916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rawfish 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Gator Sa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Boudain/Boudain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rackl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raw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Fried Chi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Frito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a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2286000"/>
            <a:ext cx="3521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Mac~n~Che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o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halu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rmad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Pig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Sheperd’s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Blackberry Du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Snow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ookies~n~Cream ice C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828800" y="533520"/>
            <a:ext cx="5457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My Favorite Teachers Are...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362320"/>
            <a:ext cx="685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iddyup Std"/>
              </a:rPr>
              <a:t>Mrs. We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iddyup Std"/>
              </a:rPr>
              <a:t>Ms. Par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iddyup Std"/>
              </a:rPr>
              <a:t>Ms. David (In Shrevepor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iddyup Std"/>
              </a:rPr>
              <a:t>Mr. Grisham (In Shrevepor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" dur="10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" dur="10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981080" y="304920"/>
            <a:ext cx="50292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086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iddyup Std"/>
              </a:rPr>
              <a:t>If I Could I Would...</a:t>
            </a:r>
            <a:endParaRPr b="1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iddyup Std"/>
              <a:ea typeface="Giddyup Std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2971800"/>
            <a:ext cx="67215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99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pperplate Gothic Bold"/>
              </a:rPr>
              <a:t>I would rule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pperplate Gothic Bold"/>
              </a:rPr>
              <a:t>Be a Fashion Desig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pperplate Gothic Bold"/>
              </a:rPr>
              <a:t>An Archit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pperplate Gothic Bold"/>
              </a:rPr>
              <a:t>My Bachelors in Nu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95280" y="685800"/>
            <a:ext cx="6172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iddyup Std"/>
              </a:rPr>
              <a:t>My Favorite Athlete and Singer is....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iddyup Std"/>
              <a:ea typeface="Giddyup Std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133720"/>
            <a:ext cx="2667240" cy="64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Mary J. Bl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Erykah B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Lloy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Lauren 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S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Jagged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Asha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Tevin Camp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286000"/>
            <a:ext cx="342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Venus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Reggie B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Dwayne W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Tomlinson (Charg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75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228600"/>
            <a:ext cx="36288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 Ten Years....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1889280" y="25002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362320"/>
            <a:ext cx="6035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I will be an architect and a L.V.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Mar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With 2 Kids (a boy and a gir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Living in the country, or move back        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	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to Shreveport,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Financially, Emotionally, and  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	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Physically inta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3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4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80880" y="457200"/>
            <a:ext cx="815364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dobe Garamond Pro Bold"/>
              </a:rPr>
              <a:t>That's All.  The End!!!!!</a:t>
            </a:r>
            <a:endParaRPr b="0" lang="en-US" sz="40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dobe Garamond Pro Bold"/>
              <a:ea typeface="Adobe Garamond Pro Bold"/>
            </a:endParaRPr>
          </a:p>
        </p:txBody>
      </p:sp>
    </p:spTree>
  </p:cSld>
  <p:transition spd="slow" advTm="4000">
    <p:newsflash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35:57Z</dcterms:created>
  <dc:creator>809277</dc:creator>
  <dc:description/>
  <dc:language>en-US</dc:language>
  <cp:lastModifiedBy>809277</cp:lastModifiedBy>
  <dcterms:modified xsi:type="dcterms:W3CDTF">2008-10-31T15:44:06Z</dcterms:modified>
  <cp:revision>6</cp:revision>
  <dc:subject/>
  <dc:title>Slide 1</dc:title>
</cp:coreProperties>
</file>